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16632-165B-4770-84A3-F6325E68E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8BC33-C581-4036-8883-8BE765CE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8797A-C943-417A-8C3E-969AA00C4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1B8C5-4E10-4612-BD1A-844364911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F463-8A82-44F7-9CC0-476EA14A5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24A4-530A-405B-8130-38AC2952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09B8-E245-43DA-B4AF-7EB9BC3A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B64E-5A58-46C0-8108-A69FF6CF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8AF4-6F81-4F7D-968D-F4877D84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7DA1-03DA-4593-8C74-CFDEF263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4809-8177-4707-B160-EEB12C70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33E57-E7C5-413C-9AFB-110A6D80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6BF6-60DF-4915-9D59-CB6B89E9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C7AD-F104-48B9-8AB1-05A9590E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FCB9-DDDC-429B-8D01-958726DA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1761-DE01-43C3-89CA-E67B8737B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32DA-0DF9-4B05-A525-10DE3E863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DE967-D705-428A-866F-4B40D853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ABB28-F57C-45D6-BF6F-DDF1EE40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6F58C-5DFB-4F84-8F43-3DC7C6C2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22DC6-BEF9-40ED-ABCB-56224F87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FF631-53B6-457A-8D9D-59E0E700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188DA-0721-4B3F-9E30-5AD3B0E4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AD1D7-7285-40D1-ACA2-6FDCA837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7B9E-8B6E-4042-983F-38C62A4ABE61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51CC-5A6E-4620-99FB-25AF764FA9D1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144800"/>
            <a:ext cx="9577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8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7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539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Повече, о, Христе, любов към Теб, на моята душа небесен хляб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уй тази ми молба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Повече, о, Христе,:]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любов към Теб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144648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. Каквото видиш Ти за мен добро -радост ил' скръб прати - все е едно! Молбата ми пак е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Повече, о, Христе,:]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любов към Теб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144576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 Аз земна веселба търсих навред. Насища ме сега един Твой глед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з е молбата ми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Повече, о, Христе,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любов към Теб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44396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4. Ще Те възпомена и в смъртний час. Последната молба към моя Спас пак само таз ще е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Повече, о, Христе,:]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любов към Теб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5-01T14:54:54Z</dcterms:modified>
  <cp:revision>121</cp:revision>
  <dc:subject/>
  <dc:title>Slide 1</dc:title>
</cp:coreProperties>
</file>